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52E-0A07-47EB-9965-81C6A7CC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0B7-F153-42E7-9598-C4FAD2A3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7F5-038E-4B71-AEA3-A2EF78BF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2EB-722E-48F0-B9B5-D1D116C0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9EF-337C-48FC-AEFF-89CEFC51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8C2-6BCF-447A-A11E-0D56503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9F3-E445-4985-9713-491E10F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38F-1563-4A5E-BA63-BB36108A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2F5-B1B6-4561-A17D-785DCE14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B06-0038-4DE1-812D-CB2391A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2FA-A32E-4DFE-9FD2-ACE8624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BFB-DC31-48F3-95A6-6428DC3C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9C26-296B-4050-BF76-1F3AED9C4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pekt.doc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" Target="slide3.xml"/><Relationship Id="rId6" Type="http://schemas.openxmlformats.org/officeDocument/2006/relationships/image" Target="../media/image3.jpeg"/><Relationship Id="rId7" Type="http://schemas.openxmlformats.org/officeDocument/2006/relationships/slide" Target="slide6.xml"/><Relationship Id="rId8" Type="http://schemas.openxmlformats.org/officeDocument/2006/relationships/image" Target="../media/image4.jpeg"/><Relationship Id="rId9" Type="http://schemas.openxmlformats.org/officeDocument/2006/relationships/slide" Target="slide8.xml"/><Relationship Id="rId10" Type="http://schemas.openxmlformats.org/officeDocument/2006/relationships/image" Target="../media/image5.jpeg"/><Relationship Id="rId11" Type="http://schemas.openxmlformats.org/officeDocument/2006/relationships/slide" Target="slide10.xml"/><Relationship Id="rId12" Type="http://schemas.openxmlformats.org/officeDocument/2006/relationships/image" Target="../media/image6.jpeg"/><Relationship Id="rId13" Type="http://schemas.openxmlformats.org/officeDocument/2006/relationships/slide" Target="slide12.xm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0.png"/><Relationship Id="rId18" Type="http://schemas.openxmlformats.org/officeDocument/2006/relationships/image" Target="../media/image11.gif"/><Relationship Id="rId19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izar.pu.kielce.pl/student/piasek/typy.html" TargetMode="External"/><Relationship Id="rId2" Type="http://schemas.openxmlformats.org/officeDocument/2006/relationships/hyperlink" Target="http://fizar.pu.kielce.pl/student/piasek/typy.html" TargetMode="External"/><Relationship Id="rId3" Type="http://schemas.openxmlformats.org/officeDocument/2006/relationships/hyperlink" Target="http://fizar.pu.kielce.pl/student/piasek/typy.html" TargetMode="External"/><Relationship Id="rId4" Type="http://schemas.openxmlformats.org/officeDocument/2006/relationships/hyperlink" Target="http://fizar.pu.kielce.pl/student/piasek/typy.html" TargetMode="External"/><Relationship Id="rId5" Type="http://schemas.openxmlformats.org/officeDocument/2006/relationships/hyperlink" Target="http://fizar.pu.kielce.pl/student/piasek/typy.html" TargetMode="External"/><Relationship Id="rId6" Type="http://schemas.openxmlformats.org/officeDocument/2006/relationships/hyperlink" Target="http://fizar.pu.kielce.pl/student/piasek/typy.html" TargetMode="External"/><Relationship Id="rId7" Type="http://schemas.openxmlformats.org/officeDocument/2006/relationships/hyperlink" Target="http://fizar.pu.kielce.pl/student/piasek/typy.html" TargetMode="External"/><Relationship Id="rId8" Type="http://schemas.openxmlformats.org/officeDocument/2006/relationships/hyperlink" Target="http://fizar.pu.kielce.pl/student/piasek/typy.html" TargetMode="External"/><Relationship Id="rId9" Type="http://schemas.openxmlformats.org/officeDocument/2006/relationships/hyperlink" Target="http://fizar.pu.kielce.pl/student/piasek/typy.html" TargetMode="External"/><Relationship Id="rId10" Type="http://schemas.openxmlformats.org/officeDocument/2006/relationships/hyperlink" Target="http://fizar.pu.kielce.pl/student/piasek/typy.html" TargetMode="External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Monotype Corsiva"/>
              </a:rPr>
              <a:t>ZJAWISKA  WULKAN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8954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7242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8954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724280"/>
            <a:ext cx="167616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8954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4724280"/>
            <a:ext cx="1676520" cy="17528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ekla_mnrive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124080"/>
            <a:ext cx="123192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Wulkan_tarczowy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3124080"/>
            <a:ext cx="121932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Kaldera_wulkaniczna_z_jeziorem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86200" y="3124080"/>
            <a:ext cx="125748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Budowa%20wulkanu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62720" y="3124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otok_lawy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238880" y="31240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Stozek_wulkaniczny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49528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Rozmieszczenie%20wulkanów%20na%20Ziemi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209680" y="49528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otok%20zastygłej%20lawy" descr=""/>
          <p:cNvPicPr/>
          <p:nvPr/>
        </p:nvPicPr>
        <p:blipFill>
          <a:blip r:embed="rId15"/>
          <a:stretch/>
        </p:blipFill>
        <p:spPr>
          <a:xfrm>
            <a:off x="3886200" y="4952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H31" descr=""/>
          <p:cNvPicPr/>
          <p:nvPr/>
        </p:nvPicPr>
        <p:blipFill>
          <a:blip r:embed="rId16"/>
          <a:stretch/>
        </p:blipFill>
        <p:spPr>
          <a:xfrm>
            <a:off x="5562720" y="49528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Nek_wulkaniczny_Devills_Tower" descr=""/>
          <p:cNvPicPr/>
          <p:nvPr/>
        </p:nvPicPr>
        <p:blipFill>
          <a:blip r:embed="rId17"/>
          <a:stretch/>
        </p:blipFill>
        <p:spPr>
          <a:xfrm>
            <a:off x="7238880" y="49528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9960" y="2327400"/>
            <a:ext cx="10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42900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Times New Roman"/>
              </a:rPr>
              <a:t>MATERIAŁY DLA NAUCZYCI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3526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ADANI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27672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ZADANI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3526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ZADANI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3526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ADANI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ADANI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5181480"/>
            <a:ext cx="12956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ZADANI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DANI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5181480"/>
            <a:ext cx="129528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TERIAŁY DLA UCZ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ADANIE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5334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OTAT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Monotype Corsiva"/>
              </a:rPr>
              <a:t>Witam Cię na lekcji geografii, na której poznasz zjawiska wulkaniczne naszej planety. Jeśli rozwiążesz kolejno wszystkie zadania zdobędziesz wiedzę o tych groźnych ale fascynujących cudach natu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gif%20-%202" descr=""/>
          <p:cNvPicPr/>
          <p:nvPr/>
        </p:nvPicPr>
        <p:blipFill>
          <a:blip r:embed="rId18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86600" y="6477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KONI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Scharakteryzuj wulkany typu hawajskiego i wezuwiańskie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Zapisz w „Notatniku” cechy tych wulkan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Korzystając z Internetu zapoznaj się z innymi typami wulkanów. Odwiedź stronę o podanym niżej adres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izar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u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kielce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l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student/piasek/typy.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ml</a:t>
            </a:r>
            <a:r>
              <a:rPr b="0" lang="pl-P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if%20-%202" descr=""/>
          <p:cNvPicPr/>
          <p:nvPr/>
        </p:nvPicPr>
        <p:blipFill>
          <a:blip r:embed="rId11"/>
          <a:stretch/>
        </p:blipFill>
        <p:spPr>
          <a:xfrm>
            <a:off x="8344080" y="5335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380880" y="5715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ypy wulkan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TYPY  WULKAN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gif%20-%202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Wulkan_tarczowy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2743200" cy="2382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pic>
        <p:nvPicPr>
          <p:cNvPr id="147" name="Stozek_wulkaniczny" descr=""/>
          <p:cNvPicPr/>
          <p:nvPr/>
        </p:nvPicPr>
        <p:blipFill>
          <a:blip r:embed="rId3"/>
          <a:stretch/>
        </p:blipFill>
        <p:spPr>
          <a:xfrm>
            <a:off x="5943600" y="3962520"/>
            <a:ext cx="2855880" cy="2255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48" name=""/>
          <p:cNvSpPr/>
          <p:nvPr/>
        </p:nvSpPr>
        <p:spPr>
          <a:xfrm>
            <a:off x="3809880" y="1371600"/>
            <a:ext cx="44197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WULKANY TYPU HAWAJSKIEGO - CE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1. Niskie o łagodnie nachylonych zbocz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2. Bardzo duże kratery wulkan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3. Lawa zasadowa o małej gęst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4. Wybuch spokojny, wypływ la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5. Typ erupcji: hawaj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886200"/>
            <a:ext cx="46479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ffcc00"/>
                </a:solidFill>
                <a:uFillTx/>
                <a:latin typeface="Times New Roman"/>
              </a:rPr>
              <a:t>WULKANY TYPU WEZUWIAŃSKIEGO - CE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Wysokie o stromych zbocz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Małe kratery wulkan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Lawa kwaśna o dużej gęst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Wybuch gwałtowny, rozsadzający stoż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Typ erupcji: wezuwiańsk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oznaj się z mapą rozmieszczenia wulkanów na Zie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pisz w „Notatniku” regiony świata, w których występują zjawiska wulkanicz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Ustal zależności między rozmieszczeniem wulkanów a budową geologiczną i ruchami płyt litosf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gif%20-%202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45720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07732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         </a:t>
            </a: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MA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f%20-%202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161" name="Rozmieszczenie%20wulkanów%20na%20Ziemi" descr=""/>
          <p:cNvPicPr/>
          <p:nvPr/>
        </p:nvPicPr>
        <p:blipFill>
          <a:blip r:embed="rId2"/>
          <a:stretch/>
        </p:blipFill>
        <p:spPr>
          <a:xfrm>
            <a:off x="304920" y="1190520"/>
            <a:ext cx="8534160" cy="5472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57200" y="54864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ZADANIE 7</a:t>
            </a: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pracuj swoją własną mapę rozmieszczenia największych wulkanów świata. W tym celu wykonaj przygotowane ćwicz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nstrukcja wykonania ćwiczen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orzystając z atlasu geograficznego przesuń w ćwiczeniu nazwy wulkanów do odpowiednich kółek na ma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pracowaną mapę skopiuj do „Notatnik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gif%20-%202" descr=""/>
          <p:cNvPicPr/>
          <p:nvPr/>
        </p:nvPicPr>
        <p:blipFill>
          <a:blip r:embed="rId1"/>
          <a:stretch/>
        </p:blipFill>
        <p:spPr>
          <a:xfrm>
            <a:off x="8344080" y="38088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533520" y="56386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10800"/>
                </a:moveTo>
                <a:lnTo>
                  <a:pt x="19002" y="3794"/>
                </a:lnTo>
                <a:lnTo>
                  <a:pt x="19002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5791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5791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Ćwic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prawdź czego nauczyłeś się na dzisiejszej lekcji. W tym celu rozwiąż t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Powodzeni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Na zakończenie lekcji uzupełnij swój „Notatnik” i zapisz go na dysku 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gif%20-%202" descr=""/>
          <p:cNvPicPr/>
          <p:nvPr/>
        </p:nvPicPr>
        <p:blipFill>
          <a:blip r:embed="rId1"/>
          <a:stretch/>
        </p:blipFill>
        <p:spPr>
          <a:xfrm>
            <a:off x="8077320" y="6858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457200" y="57150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5791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0100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REZENTACJA ZAKOŃCZO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Dziękuję za udział w lekcj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638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Times New Roman"/>
              </a:rPr>
              <a:t>Opracował: Andrzej Węgrzyn Zespół Szkół Ogólnokształcących w Rzepi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gif%20-%202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00800" y="3962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KONI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Monotype Corsiva"/>
              </a:rPr>
              <a:t>ZADANIE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twórz stronę „Krzyżówka geologiczn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pełnij krzyżówk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odaj nauczycielowi ocenę jaką uzyskałe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if%20-%202" descr=""/>
          <p:cNvPicPr/>
          <p:nvPr/>
        </p:nvPicPr>
        <p:blipFill>
          <a:blip r:embed="rId1"/>
          <a:stretch/>
        </p:blipFill>
        <p:spPr>
          <a:xfrm>
            <a:off x="8001000" y="68580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001000" y="518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003" h="21600">
                <a:moveTo>
                  <a:pt x="6474" y="3985"/>
                </a:moveTo>
                <a:lnTo>
                  <a:pt x="13472" y="3985"/>
                </a:lnTo>
                <a:lnTo>
                  <a:pt x="17528" y="7484"/>
                </a:lnTo>
                <a:lnTo>
                  <a:pt x="17528" y="17615"/>
                </a:lnTo>
                <a:lnTo>
                  <a:pt x="6474" y="17615"/>
                </a:lnTo>
                <a:close/>
              </a:path>
              <a:path fill="darken" w="24003" h="21600">
                <a:moveTo>
                  <a:pt x="13472" y="3985"/>
                </a:moveTo>
                <a:lnTo>
                  <a:pt x="17528" y="7484"/>
                </a:lnTo>
                <a:lnTo>
                  <a:pt x="13472" y="748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5257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Krzyżów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685800" y="518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5334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Monotype Corsiva"/>
              </a:rPr>
              <a:t>ZADANIE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Otwórz „Słowniczek”, odszukaj w nim terminy: wulkanizm i plutoniz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Zapisz wyjaśnienia terminów w „Notatnik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00"/>
                </a:solidFill>
                <a:latin typeface="Times New Roman"/>
              </a:rPr>
              <a:t>Zapoznaj się z pozostałymi terminami i zdjęciami podanymi w „Słowniczku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if%20-%202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1532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4303" h="21600">
                <a:moveTo>
                  <a:pt x="6625" y="3985"/>
                </a:moveTo>
                <a:lnTo>
                  <a:pt x="13623" y="3985"/>
                </a:lnTo>
                <a:lnTo>
                  <a:pt x="17678" y="7484"/>
                </a:lnTo>
                <a:lnTo>
                  <a:pt x="17678" y="17615"/>
                </a:lnTo>
                <a:lnTo>
                  <a:pt x="6625" y="17615"/>
                </a:lnTo>
                <a:close/>
              </a:path>
              <a:path fill="darken" w="24303" h="21600">
                <a:moveTo>
                  <a:pt x="13623" y="3985"/>
                </a:moveTo>
                <a:lnTo>
                  <a:pt x="17678" y="7484"/>
                </a:lnTo>
                <a:lnTo>
                  <a:pt x="13623" y="748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łownicz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30492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5638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SŁOWNICZEK TERMIN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1371600"/>
          <a:ext cx="7772400" cy="4114800"/>
        </p:xfrm>
        <a:graphic>
          <a:graphicData uri="http://schemas.openxmlformats.org/drawingml/2006/table">
            <a:tbl>
              <a:tblPr/>
              <a:tblGrid>
                <a:gridCol w="6019920"/>
                <a:gridCol w="1752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WULKANIZM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 ogół zjawisk geologicznych związanych z wydobywaniem się lawy oraz towarzyszących jej substancji na powierzchnię Zie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LUTONIZM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to ogół zjawisk geologicznych związanych z wdzieraniem się magmy między inne skały bez przedostawania się jej na powierzchnię Ziem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LAW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jest to roztopiona masa skalna przedostająca się na powierzchnię Ziem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MAGM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jest to roztopiona masa skalna znajdująca się w głębi Zie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KALDERA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zagłębienie powstałe w wyniku rozerwania stożka wulkanicznego lub zapadnięcia się obszaru nad opróżnionym ogniskiem wulkan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NEK WULKANICZNY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wzniesienie o bardzo stromych stokach, zbudowane z lawy zakrzepłej w kominie wulkan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GEJZER – </a:t>
                      </a: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źródło wrzącej wody, tryskające w regularnych odstępach czas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ZD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6858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5867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GALERIA ZDJĘ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98" name="Hekla_mnriver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124080" cy="2757240"/>
          </a:xfrm>
          <a:prstGeom prst="rect">
            <a:avLst/>
          </a:prstGeom>
          <a:ln w="0">
            <a:noFill/>
          </a:ln>
        </p:spPr>
      </p:pic>
      <p:pic>
        <p:nvPicPr>
          <p:cNvPr id="99" name="Kaldera_wulkaniczna_z_jeziorem" descr=""/>
          <p:cNvPicPr/>
          <p:nvPr/>
        </p:nvPicPr>
        <p:blipFill>
          <a:blip r:embed="rId3"/>
          <a:stretch/>
        </p:blipFill>
        <p:spPr>
          <a:xfrm>
            <a:off x="4419720" y="1447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0" name="Nek_wulkaniczny_Devills_Tower" descr=""/>
          <p:cNvPicPr/>
          <p:nvPr/>
        </p:nvPicPr>
        <p:blipFill>
          <a:blip r:embed="rId4"/>
          <a:stretch/>
        </p:blipFill>
        <p:spPr>
          <a:xfrm>
            <a:off x="2286000" y="3200400"/>
            <a:ext cx="2895480" cy="2747880"/>
          </a:xfrm>
          <a:prstGeom prst="rect">
            <a:avLst/>
          </a:prstGeom>
          <a:ln w="0">
            <a:noFill/>
          </a:ln>
        </p:spPr>
      </p:pic>
      <p:pic>
        <p:nvPicPr>
          <p:cNvPr id="101" name="gejzer" descr=""/>
          <p:cNvPicPr/>
          <p:nvPr/>
        </p:nvPicPr>
        <p:blipFill>
          <a:blip r:embed="rId5"/>
          <a:stretch/>
        </p:blipFill>
        <p:spPr>
          <a:xfrm>
            <a:off x="5943600" y="3429000"/>
            <a:ext cx="2895480" cy="261468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80880" y="57150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5943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„Słowniczk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AL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J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ZADANIE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oznaj się z budową stożka wulkani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Wykonaj w „Notatniku” uproszczony rysunek wulkanu, oznacz i nazwij jego podstawowe elem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45720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53280" y="56386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791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zekrój wulk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PRZEKRÓJ  WULKAN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24280" y="1600200"/>
            <a:ext cx="3810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omin wulkani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r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pioły i pył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krywy law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Starsze pokrywy lawy i popioł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Ognisko magm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18" name="Budowa%20wulkanu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809880" cy="3733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3300"/>
            </a:outerShdw>
          </a:effectLst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0948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5943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ZADANIE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klasyfikuj i wymień produkty wybuchu wulkaniczn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Zapisz w „Notatniku” produkty wybuchu wulkaniczn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6212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strony głów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5715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odukty wybu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PRODUKTY  WYBUCHU WULKANICZ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if%20-%202" descr=""/>
          <p:cNvPicPr/>
          <p:nvPr/>
        </p:nvPicPr>
        <p:blipFill>
          <a:blip r:embed="rId1"/>
          <a:stretch/>
        </p:blipFill>
        <p:spPr>
          <a:xfrm>
            <a:off x="8001000" y="53352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130" name="Popioły%20wulkaniczne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2819520" cy="2190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pic>
        <p:nvPicPr>
          <p:cNvPr id="131" name="Potok_lawy" descr=""/>
          <p:cNvPicPr/>
          <p:nvPr/>
        </p:nvPicPr>
        <p:blipFill>
          <a:blip r:embed="rId3"/>
          <a:stretch/>
        </p:blipFill>
        <p:spPr>
          <a:xfrm>
            <a:off x="5029200" y="1600200"/>
            <a:ext cx="2666880" cy="216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cc00"/>
            </a:outerShdw>
          </a:effectLst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08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943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owrót do poprzedniej st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600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pioły wulkanicz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676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886200"/>
            <a:ext cx="8153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STAŁE – utwory piroklastyczne: popioły, piaski wulkaniczne, bomby, wulkaniczne, lapille, bloki sk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CIEKŁE – la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c00"/>
                </a:solidFill>
                <a:latin typeface="Times New Roman"/>
              </a:rPr>
              <a:t>PRODUKTY LOTNE – wodór, para wodna, chlorowodór, siarkowodór, chlor, dwutlenek węgla, dwutlenek siar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7:03:05Z</dcterms:created>
  <dc:creator>PRIVATE</dc:creator>
  <dc:description/>
  <dc:language>en-US</dc:language>
  <cp:lastModifiedBy>PRIVATE</cp:lastModifiedBy>
  <dcterms:modified xsi:type="dcterms:W3CDTF">2002-04-02T04:30:43Z</dcterms:modified>
  <cp:revision>108</cp:revision>
  <dc:subject/>
  <dc:title>ZJAWISKA  WULKANICZNE</dc:title>
</cp:coreProperties>
</file>